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3EC-72AE-4383-904A-056CDDA8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0F6-EAFD-41B7-A70F-40388099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55F-EAB6-49EC-964C-7182BB1A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CC5-14AB-43E5-8B44-837E9649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83B-365F-4FE8-BD21-9D7E05F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CD3-4CEA-4FF9-9F2E-6A1B67E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4E0-8D3E-4D07-837A-EB96B74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DFB-B763-498B-9D1C-DCF20B73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B1F-B1FE-47A9-8372-55986EC7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594-EC9B-4FAB-BF11-564DB28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C07-89D3-4DF2-B1F2-B081A97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73B-974D-4715-B610-130ECD8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1F8FB-14C1-4F3E-AC4D-FED433BE61CB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15871-86AC-446B-910D-F99918F06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RESENTATION 2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3357720"/>
            <a:ext cx="6227640" cy="2016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3645000"/>
            <a:ext cx="80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системы </a:t>
            </a:r>
            <a:endParaRPr b="0" lang="en-US" sz="28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балансированных показателей</a:t>
            </a:r>
            <a:endParaRPr b="0" lang="en-US" sz="28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илерском предприятии</a:t>
            </a:r>
            <a:endParaRPr b="0" lang="en-US" sz="28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имер ГК «ДримКа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29397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еев Олег</a:t>
            </a:r>
            <a:endParaRPr b="0" lang="en-US" sz="28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17BEF-8F26-4D9C-9C8B-88B6EE34064D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82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09080" cy="6905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611280" y="1268280"/>
            <a:ext cx="68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казатели, характеризующие бизнес-процессы (продолжение) 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611280" y="2421000"/>
            <a:ext cx="792144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Выручка по допоборудованию с одного автомобиля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% автомобилей с установленным допоборудованием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Оборачиваемость запчастей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Средняя наценка на запчасти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%неликвида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% охвата страховыми услугами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ОСАГО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КАСКО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3157E-DC25-4214-B0CE-5982017BBFBD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87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казатели по рынку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11280" y="2046240"/>
            <a:ext cx="79214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Доля на локальном рынке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Общее число клиентов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личество новых клиентов за отчетный месяц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эффициент маркетинговой активности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Стоимость контакта с целевой аудиторией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Отношение рекламных расходов к заключенным контрактам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эффициент эффективности работы с посещениями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личество контрактов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18676-112A-4A63-B5B4-7DE745842B24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92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казатели по персоналу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11280" y="2046240"/>
            <a:ext cx="7921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Текучесть персонала (без учета уволенных по инициативе администрации)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Доля ФОТ в ВП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в целом по ГК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по ДЦ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по направлениям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по центрам прибыли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9397"/>
                </a:solidFill>
                <a:latin typeface="Arial"/>
              </a:rPr>
              <a:t>EBITDA </a:t>
            </a: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на 1 сотрудника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912FB-00CD-4DB8-936F-0BB7D2140E27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97" name="Picture 2" descr="PRESENTATION 2_b.jpg"/>
          <p:cNvPicPr/>
          <p:nvPr/>
        </p:nvPicPr>
        <p:blipFill>
          <a:blip r:embed="rId1"/>
          <a:stretch/>
        </p:blipFill>
        <p:spPr>
          <a:xfrm>
            <a:off x="14400" y="-20520"/>
            <a:ext cx="9094680" cy="6905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611280" y="2276640"/>
            <a:ext cx="7921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См. файл карта ССП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663480" y="3789360"/>
            <a:ext cx="520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EA9D3-2A8D-4BF7-8B73-D6EAFAC8EADC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101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редварительные результаты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611280" y="2492280"/>
            <a:ext cx="79214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Рост выручки более чем в 4 раза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Рост по ключевому направлению (</a:t>
            </a:r>
            <a:r>
              <a:rPr b="0" lang="en-US" sz="2400" spc="-1" strike="noStrike">
                <a:solidFill>
                  <a:srgbClr val="929397"/>
                </a:solidFill>
                <a:latin typeface="Arial"/>
              </a:rPr>
              <a:t>aftersales</a:t>
            </a: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) более чем в 5 раз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Снижение соотношения показателя долг/</a:t>
            </a:r>
            <a:r>
              <a:rPr b="0" lang="en-US" sz="2400" spc="-1" strike="noStrike">
                <a:solidFill>
                  <a:srgbClr val="929397"/>
                </a:solidFill>
                <a:latin typeface="Arial"/>
              </a:rPr>
              <a:t>EBITDA </a:t>
            </a: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до плановых показателей, поставленных на 30.06.2011 г.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51FE9-0218-4959-B98D-8137D854D1A2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106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11280" y="1700280"/>
            <a:ext cx="7921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663480" y="3789360"/>
            <a:ext cx="520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4067280" y="3354480"/>
            <a:ext cx="49845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0"/>
            <a:ext cx="90946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О компании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611280" y="1989000"/>
            <a:ext cx="792144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9397"/>
                </a:solidFill>
                <a:latin typeface="Arial"/>
              </a:rPr>
              <a:t>ГК «ДримКар»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оперирует 22 автоцентрами в Ставрополе и Минеральных Водах.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Официальный дилер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BMW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Cadillac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Chevrolet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Infiniti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Hyundai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Kia,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Mazda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Mini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Nissan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Opel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Peugeot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Porsche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Renault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Subaru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Новый этап развития компании начался в октябре 2010 г.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9397"/>
                </a:solidFill>
                <a:latin typeface="Arial"/>
              </a:rPr>
              <a:t>Рост показателей во 2 кв. по отношению к 1 кв. 2011 г. :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Продажа автомобилей – в 2 раза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Выручка по сервису – в 2,5 раза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9397"/>
                </a:solidFill>
                <a:latin typeface="Arial"/>
              </a:rPr>
              <a:t>Прогноз на 2011 г. по отношению к 2010 г.: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Продажа автомобилей – рост более чем в 4 раза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Сервис – рост более чем в 5 раз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7267D-9579-47F7-9D9E-62BC6E515CE6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50" name="Picture 2" descr="PRESENTATION 2_b.jpg"/>
          <p:cNvPicPr/>
          <p:nvPr/>
        </p:nvPicPr>
        <p:blipFill>
          <a:blip r:embed="rId1"/>
          <a:stretch/>
        </p:blipFill>
        <p:spPr>
          <a:xfrm>
            <a:off x="14400" y="-27000"/>
            <a:ext cx="909468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11280" y="1268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чему простая идея ССП эффективна?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7200" y="2133720"/>
            <a:ext cx="829152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Руководители ДЦ четко понимают задачи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У них нет возможности «хитрить» с бюджетами</a:t>
            </a:r>
            <a:r>
              <a:rPr b="0" lang="en-US" sz="20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(используя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значения исторических показателей и показателей «с рынка»)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Можно выстроить систему мотивации персонала,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отвечающую поставленной стратегической цели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Возможность «оцифровать» цели и затем сравнить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их с результатом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Наличие возможности не только видеть результат в цифрах,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но и – что важнее – видеть обоснованный прогноз в цифрах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Гибкость системы: меняются цели или 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бизнес-среда – перенастраивается или меняется система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>
              <a:buClr>
                <a:srgbClr val="92939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BB167-0FD1-4CCC-BD6C-0E0E649AF6A6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54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11280" y="1268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Важно помнить!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7200" y="2133720"/>
            <a:ext cx="82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Нет универсальной  системы «для всех»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Нет универсальной системы «навсегда»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 marL="533520" indent="-533520">
              <a:buClr>
                <a:srgbClr val="929397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Необходимо наличие четко поставленных стратегических целей и декомпозиция их на тактические задачи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85AAE-CE2F-4F82-B35F-93549AE7CFBC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58" name="Picture 2" descr="PRESENTATION 2_b.jpg"/>
          <p:cNvPicPr/>
          <p:nvPr/>
        </p:nvPicPr>
        <p:blipFill>
          <a:blip r:embed="rId1"/>
          <a:stretch/>
        </p:blipFill>
        <p:spPr>
          <a:xfrm>
            <a:off x="14400" y="-20520"/>
            <a:ext cx="909468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строение ССП: с чего начать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11280" y="1935000"/>
            <a:ext cx="7921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9397"/>
                </a:solidFill>
                <a:latin typeface="Arial"/>
              </a:rPr>
              <a:t>Конечно, с постановки актуальной стратегической цели!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Максимизация прибыли в текущий момент?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Подготовка к продаже и, как следствие, рост капитализации?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Рост компании (используя момент) с последующей стабилизацией?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63480" y="3789360"/>
            <a:ext cx="520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F1914-3846-4E11-88B7-E825E5A0BD76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63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09080" cy="6905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11280" y="1935000"/>
            <a:ext cx="7921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роект, реализованный в ГК «ДримКар» в 2011 году (общий срок проекта рассчитан до 2013 года)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63480" y="3789360"/>
            <a:ext cx="520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95191-564F-473C-BC8D-01DF6D6EB03B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67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184320"/>
            <a:ext cx="9144000" cy="7042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ставлена цель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11280" y="1935000"/>
            <a:ext cx="7921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Вернуть утраченные во время кризиса рыночные позиции и создать структуру, устойчивую к кризисным влияниям 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D0997-66E4-4A2C-A17C-D3437E84C54A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72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09080" cy="6905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611280" y="1268280"/>
            <a:ext cx="68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Выдержки из системы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611280" y="1935000"/>
            <a:ext cx="792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9397"/>
                </a:solidFill>
                <a:latin typeface="Arial"/>
              </a:rPr>
              <a:t>Финансовые показатели, вошедшие в систему сбалансированных показателей на 2011 год: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Валовая прибыль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Выручка по сервису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9397"/>
                </a:solidFill>
                <a:latin typeface="Arial"/>
              </a:rPr>
              <a:t>EBITDA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Отношение долга к </a:t>
            </a:r>
            <a:r>
              <a:rPr b="0" lang="en-US" sz="2400" spc="-1" strike="noStrike">
                <a:solidFill>
                  <a:srgbClr val="929397"/>
                </a:solidFill>
                <a:latin typeface="Arial"/>
              </a:rPr>
              <a:t>EBITDA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Отношение рабочего капитала к выручке 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62859-2B1F-44D4-9559-BF96559C741E}" type="datetime5">
              <a:rPr b="0" lang="en-US" sz="1200" spc="-1" strike="noStrike">
                <a:solidFill>
                  <a:srgbClr val="898989"/>
                </a:solidFill>
                <a:latin typeface="Calibri"/>
              </a:rPr>
              <a:t>Jul 30, 2026</a:t>
            </a:fld>
            <a:endParaRPr b="0" lang="en-US" sz="1200" spc="-1" strike="noStrike">
              <a:solidFill>
                <a:srgbClr val="929397"/>
              </a:solidFill>
              <a:latin typeface="Arial"/>
            </a:endParaRPr>
          </a:p>
        </p:txBody>
      </p:sp>
      <p:pic>
        <p:nvPicPr>
          <p:cNvPr id="77" name="Picture 2" descr="PRESENTATION 2_b.jpg"/>
          <p:cNvPicPr/>
          <p:nvPr/>
        </p:nvPicPr>
        <p:blipFill>
          <a:blip r:embed="rId1"/>
          <a:stretch/>
        </p:blipFill>
        <p:spPr>
          <a:xfrm>
            <a:off x="0" y="-20520"/>
            <a:ext cx="9109080" cy="6905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611280" y="1268280"/>
            <a:ext cx="68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10b44"/>
                </a:solidFill>
                <a:latin typeface="Arial"/>
                <a:ea typeface="Arial"/>
              </a:rPr>
              <a:t>Показатели, характеризующие бизнес-процессы </a:t>
            </a:r>
            <a:endParaRPr b="0" lang="en-US" sz="32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11280" y="2421000"/>
            <a:ext cx="792144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личество проданных автомобилей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Оборачиваемость склада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личество проданных а/м на 1 менеджера ОП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личество реализованных нормо-часов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слесарный цех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кузовной цех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29397"/>
                </a:solidFill>
                <a:latin typeface="Arial"/>
              </a:rPr>
              <a:t>Коэффициент загрузки</a:t>
            </a: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слесарный цех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buClr>
                <a:srgbClr val="929397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29397"/>
                </a:solidFill>
                <a:latin typeface="Arial"/>
              </a:rPr>
              <a:t>кузовной цех</a:t>
            </a: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29397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-2989440" y="1649520"/>
            <a:ext cx="52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293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5:25:01Z</dcterms:created>
  <dc:creator>k k</dc:creator>
  <dc:description/>
  <dc:language>en-US</dc:language>
  <cp:lastModifiedBy>Oleg Moseev</cp:lastModifiedBy>
  <dcterms:modified xsi:type="dcterms:W3CDTF">2011-07-04T06:57:00Z</dcterms:modified>
  <cp:revision>316</cp:revision>
  <dc:subject/>
  <dc:title>Slide 1</dc:title>
</cp:coreProperties>
</file>